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870-DC5E-498B-B565-A9F719A5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35F8-96A1-41E4-B451-2C3D1497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653-5657-4FA3-B47C-0A45419F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03F-8C8A-4264-9808-1DFB6DFC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970-6013-4C72-A0FD-B8CA58D2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89D-204A-427B-8114-27EC2C1F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25F-95B5-4E13-BA23-37DE0F16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06F-8D0D-4C76-B051-C3D1E566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4F2-D164-448C-859D-04C12069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DF7-1812-4FCD-9FF7-1A8E5E7B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C89-76AB-42EE-9F4F-42BEE4BA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937-DC62-4B9F-AD6E-5952B5A1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6453-3A38-4E30-B65E-702A42D20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369800">
            <a:off x="5562720" y="761760"/>
            <a:ext cx="266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efedd"/>
                    </a:gs>
                  </a:gsLst>
                  <a:lin ang="4032000"/>
                </a:gradFill>
                <a:latin typeface="Arial Black"/>
              </a:rPr>
              <a:t>Emm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efedd"/>
                  </a:gs>
                </a:gsLst>
                <a:lin ang="4032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 rot="20122800">
            <a:off x="4723920" y="2666520"/>
            <a:ext cx="27529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edcfe"/>
                    </a:gs>
                  </a:gsLst>
                  <a:lin ang="6876000"/>
                </a:gradFill>
                <a:latin typeface="Arial Black"/>
              </a:rPr>
              <a:t>Fran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edcfe"/>
                  </a:gs>
                </a:gsLst>
                <a:lin ang="6876000"/>
              </a:gra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 rot="2011200">
            <a:off x="5714640" y="4800240"/>
            <a:ext cx="2438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efedd"/>
                    </a:gs>
                    <a:gs pos="100000">
                      <a:srgbClr val="ffffcc"/>
                    </a:gs>
                  </a:gsLst>
                  <a:lin ang="3390000"/>
                </a:gradFill>
                <a:latin typeface="Arial Black"/>
              </a:rPr>
              <a:t>Wend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efedd"/>
                  </a:gs>
                  <a:gs pos="100000">
                    <a:srgbClr val="ffffcc"/>
                  </a:gs>
                </a:gsLst>
                <a:lin ang="3390000"/>
              </a:gradFill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2857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43200" y="5410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My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5000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My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1027800">
            <a:off x="5638320" y="1600200"/>
            <a:ext cx="2994120" cy="3048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20247600">
            <a:off x="762120" y="1905120"/>
            <a:ext cx="2971800" cy="2523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21244800">
            <a:off x="3200400" y="4266720"/>
            <a:ext cx="236232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dd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19657200">
            <a:off x="304920" y="1066320"/>
            <a:ext cx="4343400" cy="2486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1752600">
            <a:off x="3962160" y="3200400"/>
            <a:ext cx="4848120" cy="257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 rot="2356200">
            <a:off x="5181120" y="914040"/>
            <a:ext cx="3267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ff"/>
                </a:solidFill>
                <a:latin typeface="Arial Rounded MT Bold"/>
              </a:rPr>
              <a:t>My Scho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676160" y="4571640"/>
            <a:ext cx="759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286000" y="525780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ed0c5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01920" cy="320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H="1">
            <a:off x="2590560" y="1752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1295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2876400" cy="270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H="1" flipV="1">
            <a:off x="3047760" y="4419720"/>
            <a:ext cx="1447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33520" y="6095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869400">
            <a:off x="3351240" y="40370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S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899400">
            <a:off x="68508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286680" y="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29200" y="1676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12193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562720" y="30481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4038480" y="5410080"/>
            <a:ext cx="1447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0370600">
            <a:off x="3505680" y="5257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erl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17:10Z</dcterms:created>
  <dc:creator>CGB</dc:creator>
  <dc:description/>
  <dc:language>en-US</dc:language>
  <cp:lastModifiedBy>CGB</cp:lastModifiedBy>
  <dcterms:modified xsi:type="dcterms:W3CDTF">2008-06-09T13:45:31Z</dcterms:modified>
  <cp:revision>7</cp:revision>
  <dc:subject/>
  <dc:title>!ME!</dc:title>
</cp:coreProperties>
</file>